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F3854-CAFD-4291-BD39-0E3AB9694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B2DDD-AE28-46CB-8885-941D8892C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A9974-D60E-4BFF-9B10-E56493F6A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A1F87-BBFF-4F13-B3D1-AEC2099F5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FF616-95D8-47DA-BA8B-8348C0A98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C12A1-905E-499E-96D8-77CC9884F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35581-DAD0-461B-8703-838D32F98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6918E-A526-408B-A459-4EDA14C2B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13E6C-8577-434F-A173-B5D3C5298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79B2C-4DBE-4559-B4BD-18F20E523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FA785-C266-438B-BBD0-4EF4AE6EF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B8CA3-43B7-42ED-A670-8BDB0B826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BAFB8-95AC-45EE-ACB9-98AE863B7480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303640" y="301680"/>
            <a:ext cx="460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bject- Tree: Lawful Interce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51680" y="5680080"/>
            <a:ext cx="182520" cy="64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029200" y="5811840"/>
            <a:ext cx="111240" cy="669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627000" y="5943600"/>
            <a:ext cx="344520" cy="55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44720" y="5181480"/>
            <a:ext cx="203400" cy="40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578400" y="896760"/>
            <a:ext cx="526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citt(0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264360" y="2300400"/>
            <a:ext cx="183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26200" y="4983120"/>
            <a:ext cx="3179520" cy="573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952960" y="4429080"/>
            <a:ext cx="203400" cy="40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108320" y="4707000"/>
            <a:ext cx="3812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924280" y="1146240"/>
            <a:ext cx="822240" cy="54756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3471480" y="1146240"/>
            <a:ext cx="274680" cy="63972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746520" y="1146240"/>
            <a:ext cx="274680" cy="63972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746520" y="1146240"/>
            <a:ext cx="1006560" cy="730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563640" y="1876320"/>
            <a:ext cx="1189080" cy="8240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3196800" y="2700360"/>
            <a:ext cx="366840" cy="54756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564000" y="2700360"/>
            <a:ext cx="457200" cy="547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3564000" y="324792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021200" y="3247920"/>
            <a:ext cx="639720" cy="6415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3197160" y="3889440"/>
            <a:ext cx="1463760" cy="730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4111560" y="3889440"/>
            <a:ext cx="549360" cy="822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660920" y="3889440"/>
            <a:ext cx="639720" cy="1096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660920" y="3889440"/>
            <a:ext cx="1279440" cy="5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2832120" y="4619520"/>
            <a:ext cx="365040" cy="54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2374920" y="5168880"/>
            <a:ext cx="457200" cy="2746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3654360" y="4711680"/>
            <a:ext cx="457200" cy="2746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3975120" y="4986360"/>
            <a:ext cx="1325520" cy="944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5025600" y="4986360"/>
            <a:ext cx="274680" cy="822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300640" y="4986360"/>
            <a:ext cx="763560" cy="5684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300640" y="4986360"/>
            <a:ext cx="1736640" cy="679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5757480" y="4437000"/>
            <a:ext cx="182520" cy="3668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246200" y="1368360"/>
            <a:ext cx="1448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identified-organization(4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654720" y="2192400"/>
            <a:ext cx="500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etsi(0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805920" y="2801880"/>
            <a:ext cx="1113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securityDomain(2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273840" y="3335400"/>
            <a:ext cx="583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fraud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15400" y="3335400"/>
            <a:ext cx="1063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lawfulIntercept(2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045600" y="4325760"/>
            <a:ext cx="474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hi1(0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807360" y="4402080"/>
            <a:ext cx="474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hi2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585320" y="4405320"/>
            <a:ext cx="474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hi3(2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560560" y="4021200"/>
            <a:ext cx="505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him(3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86600" y="4786200"/>
            <a:ext cx="1377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notificationOperation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37880" y="510228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version1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174480" y="467676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version1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175000" y="445608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version1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746160" y="509112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version2(2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3284640" y="5931000"/>
            <a:ext cx="690480" cy="3556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841120" y="598500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version1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4463640" y="5802480"/>
            <a:ext cx="568440" cy="66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122360" y="589428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version1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45120" y="5559480"/>
            <a:ext cx="27000" cy="9190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68680" y="575640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version1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6659640" y="5676840"/>
            <a:ext cx="371520" cy="62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168600" y="574848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version1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601800" y="5530680"/>
            <a:ext cx="718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ircuitLI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393440" y="5521320"/>
            <a:ext cx="753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tETRALI(2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82280" y="5435640"/>
            <a:ext cx="715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gPRSLI(3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163560" y="5216400"/>
            <a:ext cx="706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clinkLI(4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8236080" y="5553000"/>
            <a:ext cx="280800" cy="7365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686360" y="572148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version1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432120" y="4894200"/>
            <a:ext cx="651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gSMLI(5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001920" y="447048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version2(2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882520" y="518148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version2(2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695400" y="617868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version2(2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035320" y="608652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version2(2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100640" y="590400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version2(2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876240" y="3886200"/>
            <a:ext cx="3772080" cy="79056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00200" y="4408560"/>
            <a:ext cx="418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0000"/>
                </a:solidFill>
                <a:latin typeface="Times New Roman"/>
              </a:rPr>
              <a:t>3G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4724280"/>
            <a:ext cx="466560" cy="40968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4840" y="4695840"/>
            <a:ext cx="561960" cy="41904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866880" y="4705200"/>
            <a:ext cx="38160" cy="44784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61440" y="4851360"/>
            <a:ext cx="34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0000"/>
                </a:solidFill>
                <a:latin typeface="Times New Roman"/>
              </a:rPr>
              <a:t>hi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94880" y="4879800"/>
            <a:ext cx="34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0000"/>
                </a:solidFill>
                <a:latin typeface="Times New Roman"/>
              </a:rPr>
              <a:t>hi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23200" y="4775040"/>
            <a:ext cx="34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0000"/>
                </a:solidFill>
                <a:latin typeface="Times New Roman"/>
              </a:rPr>
              <a:t>hi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457200" y="5143680"/>
            <a:ext cx="409680" cy="30456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31480" y="550548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0000"/>
                </a:solidFill>
                <a:latin typeface="Arial"/>
              </a:rPr>
              <a:t>version1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24T11:46:07Z</dcterms:created>
  <dc:creator>Wolfgang Schumacher</dc:creator>
  <dc:description/>
  <dc:language>en-US</dc:language>
  <cp:lastModifiedBy>m.b.</cp:lastModifiedBy>
  <cp:lastPrinted>2000-11-29T10:02:02Z</cp:lastPrinted>
  <dcterms:modified xsi:type="dcterms:W3CDTF">2002-01-30T15:15:58Z</dcterms:modified>
  <cp:revision>39</cp:revision>
  <dc:subject/>
  <dc:title>Kein Folientitel</dc:title>
</cp:coreProperties>
</file>