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20FD-AAAC-467B-8644-19DAFD8FF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4B388-847A-46FD-998F-CAEB2213A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2055-88DA-4EFE-B828-F4E39D8D4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044A-FB2B-44CB-930B-B3A2CD53E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3E33D0-CC12-449C-815A-DA414F7A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3E39C5-71E4-4E74-A9CD-0F5EC2CD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0627F-3E43-4EB5-A466-EBA22DF5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E49CC-84D2-4DCB-9626-B3F3102C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32D6E-5E01-4C19-BB21-DF4CD9F6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CE6E8-23A1-4E49-8614-CA19297E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584E04-A163-4918-A5DD-3BE26D6E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9E4E1-3BC7-4BCB-BEBD-89EB67D0A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803E4-44FA-496A-81F8-E178C521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6CF7A-6174-49C3-8BD6-A131BCBF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9E242-6D99-4439-83DA-62880455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2E40A-13F9-4172-A3A3-848F9EF9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3CE12-8395-4558-B995-1905E6B3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A249-18E7-4246-83C8-FDE3EE503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10BA-34E8-487C-B50F-1EBD30C23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7DC3-388F-4862-B880-6328DD7DA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A533-F2D9-41B4-AC4B-7940007D8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238D1-4047-4C4F-A86A-BE100034FE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F04CD-BCBB-4036-8BA5-EA8AC08319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3979-4C0C-4874-B0DC-AFA898D11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3468-4961-48CA-A70E-127F36427A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8381880" y="6248520"/>
            <a:ext cx="609840" cy="457200"/>
            <a:chOff x="8381880" y="6248520"/>
            <a:chExt cx="609840" cy="457200"/>
          </a:xfrm>
        </p:grpSpPr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8381880" y="6248520"/>
              <a:ext cx="6098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PlaceHolder 4"/>
            <p:cNvSpPr>
              <a:spLocks noGrp="1"/>
            </p:cNvSpPr>
            <p:nvPr>
              <p:ph type="ftr" idx="2"/>
            </p:nvPr>
          </p:nvSpPr>
          <p:spPr>
            <a:xfrm>
              <a:off x="8381880" y="624852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lstStyle>
              <a:lvl1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  <a:defRPr b="0" lang="en-US" sz="1400" spc="-1" strike="noStrike">
                  <a:solidFill>
                    <a:srgbClr val="000000"/>
                  </a:solidFill>
                  <a:latin typeface="Tahoma"/>
                </a:defRPr>
              </a:lvl1pPr>
            </a:lstStyle>
            <a:p>
              <a:pPr indent="0" algn="ctr">
                <a:lnSpc>
                  <a:spcPct val="10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828800" y="2438280"/>
            <a:ext cx="6172200" cy="4648320"/>
            <a:chOff x="1828800" y="2438280"/>
            <a:chExt cx="6172200" cy="4648320"/>
          </a:xfrm>
        </p:grpSpPr>
        <p:pic>
          <p:nvPicPr>
            <p:cNvPr id="44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1828800" y="2438280"/>
              <a:ext cx="617220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 txBox="1"/>
            <p:nvPr/>
          </p:nvSpPr>
          <p:spPr>
            <a:xfrm>
              <a:off x="1828800" y="2438280"/>
              <a:ext cx="617220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7E82-AFA0-46F2-B3D0-1C12E29B6F3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aint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für Anfäng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38280" y="4647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aos Communication Congres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erlin, 27.-29. Dezember 1998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 oder 100 Mbit/s: Gleiches Protok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me-Typ: Ethernet-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Byte Adressen, weltweit eindeutig (in der Hardware festgeleg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SMA/CD, “Shared media”, nicht kollisionsfrei, stochastisches Ver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erdings auch “switched Ethernet”, kollisionsfrei (gleiches Protoko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1EF8-671D-44AF-B8FE-D1B6FF1A6B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692280" y="1606680"/>
            <a:ext cx="7302600" cy="3788640"/>
            <a:chOff x="692280" y="1606680"/>
            <a:chExt cx="7302600" cy="3788640"/>
          </a:xfrm>
        </p:grpSpPr>
        <p:sp>
          <p:nvSpPr>
            <p:cNvPr id="163" name=""/>
            <p:cNvSpPr/>
            <p:nvPr/>
          </p:nvSpPr>
          <p:spPr>
            <a:xfrm>
              <a:off x="6922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20760" y="4937040"/>
              <a:ext cx="587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 Byte Zieladresse (destination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2120" y="2362320"/>
              <a:ext cx="0" cy="2743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2120" y="5105520"/>
              <a:ext cx="152388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49480" y="1606680"/>
            <a:ext cx="5829120" cy="3255480"/>
            <a:chOff x="1149480" y="1606680"/>
            <a:chExt cx="5829120" cy="3255480"/>
          </a:xfrm>
        </p:grpSpPr>
        <p:sp>
          <p:nvSpPr>
            <p:cNvPr id="168" name=""/>
            <p:cNvSpPr/>
            <p:nvPr/>
          </p:nvSpPr>
          <p:spPr>
            <a:xfrm>
              <a:off x="1149480" y="1606680"/>
              <a:ext cx="368280" cy="749160"/>
            </a:xfrm>
            <a:prstGeom prst="rect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5840" y="4403880"/>
              <a:ext cx="4712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Byte Quelladresse (source addres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95280" y="2209680"/>
              <a:ext cx="0" cy="24386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4648320"/>
              <a:ext cx="990720" cy="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606680" y="1606680"/>
            <a:ext cx="6528960" cy="2721960"/>
            <a:chOff x="1606680" y="1606680"/>
            <a:chExt cx="6528960" cy="2721960"/>
          </a:xfrm>
        </p:grpSpPr>
        <p:sp>
          <p:nvSpPr>
            <p:cNvPr id="173" name=""/>
            <p:cNvSpPr/>
            <p:nvPr/>
          </p:nvSpPr>
          <p:spPr>
            <a:xfrm>
              <a:off x="1606680" y="1606680"/>
              <a:ext cx="21564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84560" y="3870360"/>
              <a:ext cx="585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Typ: 0800=IP,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0806=ARP, 0835=RAR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76520" y="2209680"/>
              <a:ext cx="0" cy="19051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676160" y="4114800"/>
              <a:ext cx="609480" cy="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911240" y="1600200"/>
            <a:ext cx="6738840" cy="1509120"/>
            <a:chOff x="1911240" y="1600200"/>
            <a:chExt cx="6738840" cy="1509120"/>
          </a:xfrm>
        </p:grpSpPr>
        <p:sp>
          <p:nvSpPr>
            <p:cNvPr id="178" name=""/>
            <p:cNvSpPr/>
            <p:nvPr/>
          </p:nvSpPr>
          <p:spPr>
            <a:xfrm>
              <a:off x="1911240" y="1606680"/>
              <a:ext cx="6616800" cy="749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1600200"/>
              <a:ext cx="533520" cy="45720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114800" y="2057400"/>
              <a:ext cx="457200" cy="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2057400"/>
              <a:ext cx="533520" cy="304920"/>
            </a:xfrm>
            <a:prstGeom prst="line">
              <a:avLst/>
            </a:prstGeom>
            <a:ln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8560" y="2651040"/>
              <a:ext cx="640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6 - 1500 Bytes Nutzdaten (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MTU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1500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09680" y="1981080"/>
              <a:ext cx="0" cy="8384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214000" y="1606680"/>
            <a:ext cx="6618960" cy="2112480"/>
            <a:chOff x="2214000" y="1606680"/>
            <a:chExt cx="6618960" cy="2112480"/>
          </a:xfrm>
        </p:grpSpPr>
        <p:sp>
          <p:nvSpPr>
            <p:cNvPr id="185" name=""/>
            <p:cNvSpPr/>
            <p:nvPr/>
          </p:nvSpPr>
          <p:spPr>
            <a:xfrm>
              <a:off x="8616960" y="1606680"/>
              <a:ext cx="216000" cy="749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14000" y="3260880"/>
              <a:ext cx="3749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 Byte CRC (Prüfsumme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38680" y="3505320"/>
              <a:ext cx="30481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8686800" y="2209320"/>
              <a:ext cx="0" cy="12956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6560" y="5516640"/>
            <a:ext cx="7129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 Datenteil muß notfalls auf 46 Bytes aufgefüll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hernet (RFC894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0F0F-6D97-46C5-82BB-6877292EE5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Ethernet-Kab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2, 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G58 Kabel, 50 O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-Verkabelung, T-Stüc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bel muß mit je 50 Ohm terminiert s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85 m /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10Base-T us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drillte Pa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568 Cat.3/4/5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Adernpaare (2 genutz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rn-Verkabelung vo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. 90+10 m/Str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hlertolera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 und 100 Mbit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AFB3-AD35-43FC-9B05-A5C1A30ED2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762120" y="3276720"/>
            <a:ext cx="4343400" cy="1066680"/>
            <a:chOff x="762120" y="3276720"/>
            <a:chExt cx="4343400" cy="1066680"/>
          </a:xfrm>
        </p:grpSpPr>
        <p:sp>
          <p:nvSpPr>
            <p:cNvPr id="195" name=""/>
            <p:cNvSpPr/>
            <p:nvPr/>
          </p:nvSpPr>
          <p:spPr>
            <a:xfrm>
              <a:off x="762120" y="3276720"/>
              <a:ext cx="609480" cy="1066680"/>
            </a:xfrm>
            <a:prstGeom prst="ellipse">
              <a:avLst/>
            </a:prstGeom>
            <a:noFill/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66680" y="3276720"/>
              <a:ext cx="396252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66680" y="4343400"/>
              <a:ext cx="4038840" cy="0"/>
            </a:xfrm>
            <a:prstGeom prst="line">
              <a:avLst/>
            </a:prstGeom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267080" y="2743200"/>
            <a:ext cx="4565520" cy="2718000"/>
            <a:chOff x="4267080" y="2743200"/>
            <a:chExt cx="4565520" cy="2718000"/>
          </a:xfrm>
        </p:grpSpPr>
        <p:sp>
          <p:nvSpPr>
            <p:cNvPr id="199" name=""/>
            <p:cNvSpPr/>
            <p:nvPr/>
          </p:nvSpPr>
          <p:spPr>
            <a:xfrm flipH="1">
              <a:off x="4267080" y="3733560"/>
              <a:ext cx="977760" cy="292320"/>
            </a:xfrm>
            <a:prstGeom prst="parallelogram">
              <a:avLst>
                <a:gd name="adj" fmla="val 83605"/>
              </a:avLst>
            </a:prstGeom>
            <a:solidFill>
              <a:srgbClr val="eaeaea"/>
            </a:solidFill>
            <a:ln w="12600">
              <a:solidFill>
                <a:srgbClr val="5e57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400000">
              <a:off x="3848040" y="3695760"/>
              <a:ext cx="2425680" cy="520560"/>
            </a:xfrm>
            <a:prstGeom prst="parallelogram">
              <a:avLst>
                <a:gd name="adj" fmla="val 76390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3760" y="3124080"/>
              <a:ext cx="3035520" cy="2044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2560" y="3276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2560" y="3504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2560" y="3733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560" y="39621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560" y="41907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62560" y="44193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62560" y="46479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62560" y="4876560"/>
              <a:ext cx="1206720" cy="139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59560" y="3195360"/>
              <a:ext cx="473040" cy="22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99880" y="2743200"/>
              <a:ext cx="3568680" cy="368280"/>
            </a:xfrm>
            <a:prstGeom prst="parallelogram">
              <a:avLst>
                <a:gd name="adj" fmla="val 135617"/>
              </a:avLst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8960" y="1736640"/>
            <a:ext cx="3002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A 568A-Belegu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14240" y="2895120"/>
            <a:ext cx="4648680" cy="686160"/>
            <a:chOff x="2514240" y="2895120"/>
            <a:chExt cx="4648680" cy="686160"/>
          </a:xfrm>
        </p:grpSpPr>
        <p:sp>
          <p:nvSpPr>
            <p:cNvPr id="214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419360" y="2895480"/>
              <a:ext cx="60948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028840" y="3352680"/>
              <a:ext cx="213372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4419360" y="2895120"/>
              <a:ext cx="533160" cy="38124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2514240" y="289548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876920" y="3581280"/>
              <a:ext cx="228600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4495320" y="3200400"/>
              <a:ext cx="381240" cy="380880"/>
            </a:xfrm>
            <a:prstGeom prst="line">
              <a:avLst/>
            </a:prstGeom>
            <a:ln w="507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2514240" y="3200400"/>
              <a:ext cx="1981080" cy="0"/>
            </a:xfrm>
            <a:prstGeom prst="line">
              <a:avLst/>
            </a:prstGeom>
            <a:ln w="76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62600" y="2590920"/>
            <a:ext cx="2117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ü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iß-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l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ß-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514240" y="3962520"/>
            <a:ext cx="4648320" cy="380880"/>
            <a:chOff x="2514240" y="3962520"/>
            <a:chExt cx="4648320" cy="380880"/>
          </a:xfrm>
        </p:grpSpPr>
        <p:sp>
          <p:nvSpPr>
            <p:cNvPr id="225" name=""/>
            <p:cNvSpPr/>
            <p:nvPr/>
          </p:nvSpPr>
          <p:spPr>
            <a:xfrm>
              <a:off x="2514600" y="396252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647960" y="40384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95680" y="3962520"/>
              <a:ext cx="152640" cy="7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4647960" y="4267080"/>
              <a:ext cx="251460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4495680" y="4267080"/>
              <a:ext cx="152640" cy="76320"/>
            </a:xfrm>
            <a:prstGeom prst="line">
              <a:avLst/>
            </a:prstGeom>
            <a:ln w="507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514240" y="4343400"/>
              <a:ext cx="1981080" cy="0"/>
            </a:xfrm>
            <a:prstGeom prst="line">
              <a:avLst/>
            </a:prstGeom>
            <a:ln w="76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514240" y="3580920"/>
            <a:ext cx="4648680" cy="1143360"/>
            <a:chOff x="2514240" y="3580920"/>
            <a:chExt cx="4648680" cy="1143360"/>
          </a:xfrm>
        </p:grpSpPr>
        <p:sp>
          <p:nvSpPr>
            <p:cNvPr id="235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4647960" y="3809880"/>
              <a:ext cx="251460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4495680" y="3580920"/>
              <a:ext cx="152640" cy="228600"/>
            </a:xfrm>
            <a:prstGeom prst="line">
              <a:avLst/>
            </a:prstGeom>
            <a:ln w="5076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514240" y="3581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724280" y="4495680"/>
              <a:ext cx="243864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495320" y="4495680"/>
              <a:ext cx="228600" cy="228600"/>
            </a:xfrm>
            <a:prstGeom prst="line">
              <a:avLst/>
            </a:prstGeom>
            <a:ln w="5076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514240" y="4724280"/>
              <a:ext cx="1981080" cy="0"/>
            </a:xfrm>
            <a:prstGeom prst="line">
              <a:avLst/>
            </a:prstGeom>
            <a:ln w="76320">
              <a:solidFill>
                <a:srgbClr val="ff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14240" y="4724280"/>
            <a:ext cx="4648680" cy="762120"/>
            <a:chOff x="2514240" y="4724280"/>
            <a:chExt cx="4648680" cy="762120"/>
          </a:xfrm>
        </p:grpSpPr>
        <p:sp>
          <p:nvSpPr>
            <p:cNvPr id="245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4876920" y="4724280"/>
              <a:ext cx="228600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495320" y="4724280"/>
              <a:ext cx="381240" cy="381240"/>
            </a:xfrm>
            <a:prstGeom prst="line">
              <a:avLst/>
            </a:prstGeom>
            <a:ln w="5076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514240" y="510552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4952520" y="4952880"/>
              <a:ext cx="221004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4495680" y="4952880"/>
              <a:ext cx="457200" cy="53352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2514240" y="5486400"/>
              <a:ext cx="1981080" cy="0"/>
            </a:xfrm>
            <a:prstGeom prst="line">
              <a:avLst/>
            </a:prstGeom>
            <a:ln w="7632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kurs: RJ45-Steck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4800600" y="1295280"/>
            <a:ext cx="3962520" cy="1600200"/>
          </a:xfrm>
          <a:prstGeom prst="wedgeRoundRectCallout">
            <a:avLst>
              <a:gd name="adj1" fmla="val -53805"/>
              <a:gd name="adj2" fmla="val 109125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J45-Steck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ick auf die Kontakte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 Rastfeder zeigt nach un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4FBFC-2551-4067-B2BD-7E16ED8D79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Internet Protoc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vermittel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2 bit Adressen, meist als 1.2.3.4 (dezimal) geschrieb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A1DE-B9DA-41CC-AF01-5F32DD7579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- Adress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dresse gehört jeweils zu einem Interface. D.h. ein Rechner mit mehreren Netzwerkkarten hat auch mehrere Adress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ten zu groß für den nächsten Hop, werden sie zerlegt (fragmentier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hr Details spä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31B9-3591-4CF3-AEAF-7DE13DCC76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378600" y="571500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 Byte Header, plus Op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692280" y="2062080"/>
            <a:ext cx="7226280" cy="2966760"/>
            <a:chOff x="692280" y="2062080"/>
            <a:chExt cx="7226280" cy="2966760"/>
          </a:xfrm>
        </p:grpSpPr>
        <p:sp>
          <p:nvSpPr>
            <p:cNvPr id="262" name=""/>
            <p:cNvSpPr/>
            <p:nvPr/>
          </p:nvSpPr>
          <p:spPr>
            <a:xfrm>
              <a:off x="6922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06680" y="2062080"/>
              <a:ext cx="8254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21080" y="2062080"/>
              <a:ext cx="17398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49880" y="206208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2280" y="2663640"/>
              <a:ext cx="35686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9880" y="2663640"/>
              <a:ext cx="52056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22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521080" y="3269880"/>
              <a:ext cx="17398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349880" y="3269880"/>
              <a:ext cx="3568680" cy="532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959360" y="2644560"/>
              <a:ext cx="2959200" cy="550800"/>
              <a:chOff x="4959360" y="2644560"/>
              <a:chExt cx="2959200" cy="550800"/>
            </a:xfrm>
          </p:grpSpPr>
          <p:sp>
            <p:nvSpPr>
              <p:cNvPr id="272" name=""/>
              <p:cNvSpPr/>
              <p:nvPr/>
            </p:nvSpPr>
            <p:spPr>
              <a:xfrm>
                <a:off x="4959360" y="2663640"/>
                <a:ext cx="2959200" cy="5317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241960" y="2644560"/>
                <a:ext cx="183960" cy="363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692280" y="449712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92280" y="3887640"/>
              <a:ext cx="7226280" cy="531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654840" y="2038320"/>
            <a:ext cx="895320" cy="544680"/>
            <a:chOff x="654840" y="2038320"/>
            <a:chExt cx="895320" cy="544680"/>
          </a:xfrm>
        </p:grpSpPr>
        <p:sp>
          <p:nvSpPr>
            <p:cNvPr id="277" name=""/>
            <p:cNvSpPr/>
            <p:nvPr/>
          </p:nvSpPr>
          <p:spPr>
            <a:xfrm>
              <a:off x="692280" y="2057400"/>
              <a:ext cx="8254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4840" y="2038320"/>
              <a:ext cx="895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499400" y="2038320"/>
            <a:ext cx="1014120" cy="528840"/>
            <a:chOff x="1499400" y="2038320"/>
            <a:chExt cx="1014120" cy="528840"/>
          </a:xfrm>
        </p:grpSpPr>
        <p:sp>
          <p:nvSpPr>
            <p:cNvPr id="280" name=""/>
            <p:cNvSpPr/>
            <p:nvPr/>
          </p:nvSpPr>
          <p:spPr>
            <a:xfrm>
              <a:off x="1606680" y="2057400"/>
              <a:ext cx="8254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99400" y="203832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2521080" y="2038320"/>
            <a:ext cx="1739880" cy="528840"/>
            <a:chOff x="2521080" y="2038320"/>
            <a:chExt cx="1739880" cy="528840"/>
          </a:xfrm>
        </p:grpSpPr>
        <p:sp>
          <p:nvSpPr>
            <p:cNvPr id="283" name=""/>
            <p:cNvSpPr/>
            <p:nvPr/>
          </p:nvSpPr>
          <p:spPr>
            <a:xfrm>
              <a:off x="2521080" y="2057400"/>
              <a:ext cx="173988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7560" y="2038320"/>
              <a:ext cx="759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349880" y="2038320"/>
            <a:ext cx="3686400" cy="544680"/>
            <a:chOff x="4349880" y="2038320"/>
            <a:chExt cx="3686400" cy="544680"/>
          </a:xfrm>
        </p:grpSpPr>
        <p:sp>
          <p:nvSpPr>
            <p:cNvPr id="286" name=""/>
            <p:cNvSpPr/>
            <p:nvPr/>
          </p:nvSpPr>
          <p:spPr>
            <a:xfrm>
              <a:off x="4349880" y="2057400"/>
              <a:ext cx="356868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11680" y="2038320"/>
              <a:ext cx="3324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esamtlänge (in by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6880" y="2666880"/>
            <a:ext cx="3769920" cy="544320"/>
            <a:chOff x="506880" y="2666880"/>
            <a:chExt cx="3769920" cy="544320"/>
          </a:xfrm>
        </p:grpSpPr>
        <p:sp>
          <p:nvSpPr>
            <p:cNvPr id="289" name=""/>
            <p:cNvSpPr/>
            <p:nvPr/>
          </p:nvSpPr>
          <p:spPr>
            <a:xfrm>
              <a:off x="708120" y="26859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6880" y="2666880"/>
              <a:ext cx="3580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ufende Nr. des Pak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215240" y="2647800"/>
            <a:ext cx="3695400" cy="544320"/>
            <a:chOff x="4215240" y="2647800"/>
            <a:chExt cx="3695400" cy="544320"/>
          </a:xfrm>
        </p:grpSpPr>
        <p:sp>
          <p:nvSpPr>
            <p:cNvPr id="292" name=""/>
            <p:cNvSpPr/>
            <p:nvPr/>
          </p:nvSpPr>
          <p:spPr>
            <a:xfrm>
              <a:off x="4341960" y="2666880"/>
              <a:ext cx="5205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5240" y="2647800"/>
              <a:ext cx="872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4951440" y="2647800"/>
              <a:ext cx="2959200" cy="544320"/>
              <a:chOff x="4951440" y="2647800"/>
              <a:chExt cx="2959200" cy="544320"/>
            </a:xfrm>
          </p:grpSpPr>
          <p:sp>
            <p:nvSpPr>
              <p:cNvPr id="295" name=""/>
              <p:cNvSpPr/>
              <p:nvPr/>
            </p:nvSpPr>
            <p:spPr>
              <a:xfrm>
                <a:off x="4951440" y="2666880"/>
                <a:ext cx="2959200" cy="5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149080" y="2647800"/>
                <a:ext cx="255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ragment-Offs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7" name=""/>
          <p:cNvGrpSpPr/>
          <p:nvPr/>
        </p:nvGrpSpPr>
        <p:grpSpPr>
          <a:xfrm>
            <a:off x="622800" y="3257640"/>
            <a:ext cx="1829520" cy="543960"/>
            <a:chOff x="622800" y="3257640"/>
            <a:chExt cx="1829520" cy="543960"/>
          </a:xfrm>
        </p:grpSpPr>
        <p:sp>
          <p:nvSpPr>
            <p:cNvPr id="298" name=""/>
            <p:cNvSpPr/>
            <p:nvPr/>
          </p:nvSpPr>
          <p:spPr>
            <a:xfrm>
              <a:off x="6843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2800" y="3257640"/>
              <a:ext cx="1829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ime to l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513160" y="3257640"/>
            <a:ext cx="1739880" cy="543960"/>
            <a:chOff x="2513160" y="3257640"/>
            <a:chExt cx="1739880" cy="543960"/>
          </a:xfrm>
        </p:grpSpPr>
        <p:sp>
          <p:nvSpPr>
            <p:cNvPr id="301" name=""/>
            <p:cNvSpPr/>
            <p:nvPr/>
          </p:nvSpPr>
          <p:spPr>
            <a:xfrm>
              <a:off x="2513160" y="3276360"/>
              <a:ext cx="17398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5000" y="3257640"/>
              <a:ext cx="148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toko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229640" y="3257640"/>
            <a:ext cx="3700800" cy="543960"/>
            <a:chOff x="4229640" y="3257640"/>
            <a:chExt cx="3700800" cy="543960"/>
          </a:xfrm>
        </p:grpSpPr>
        <p:sp>
          <p:nvSpPr>
            <p:cNvPr id="304" name=""/>
            <p:cNvSpPr/>
            <p:nvPr/>
          </p:nvSpPr>
          <p:spPr>
            <a:xfrm>
              <a:off x="4341960" y="3276360"/>
              <a:ext cx="356868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29640" y="3257640"/>
              <a:ext cx="370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üfsumme ü. d. Hea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692280" y="388944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ll-IP-Adresse (sour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92280" y="4498920"/>
            <a:ext cx="7226280" cy="522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el-IP-Adresse (destin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5334120"/>
            <a:ext cx="2590920" cy="1143000"/>
          </a:xfrm>
          <a:prstGeom prst="wedgeRoundRectCallout">
            <a:avLst>
              <a:gd name="adj1" fmla="val -19731"/>
              <a:gd name="adj2" fmla="val -315277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snu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 Protok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24080" y="5334120"/>
            <a:ext cx="2590920" cy="1143000"/>
          </a:xfrm>
          <a:prstGeom prst="wedgeRoundRectCallout">
            <a:avLst>
              <a:gd name="adj1" fmla="val -87254"/>
              <a:gd name="adj2" fmla="val -310833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änge des Hea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5334120"/>
            <a:ext cx="2819520" cy="1066680"/>
          </a:xfrm>
          <a:prstGeom prst="wedgeRoundRectCallout">
            <a:avLst>
              <a:gd name="adj1" fmla="val -144314"/>
              <a:gd name="adj2" fmla="val -325000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80B8-6671-46B5-B5FF-E701192B2D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CMP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nternet Control Message Protoco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Status- und Fehlermel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st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nutzt ICMP echo request/rep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il von IP (network layer), nutzt aber IP-Pakete zur Datenübertrag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6F462-B7BA-4274-A248-41EA4DB81A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ddress Resolution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r Zustellung von IP-Paketen im LAN wird die physische (z.B. Ethernet-) Adresse benötig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-Adressen (48 bit) sind weltweit eindeutig in der Hardware “eingebrann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sche IP-Adressen (32 bit) sind vom Netzverwalter festgele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P erlaubt Umsetzu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344F8-7940-4026-9DEF-2096C32B91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55120" y="173664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33880" y="1736640"/>
            <a:ext cx="101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5120" y="2041560"/>
            <a:ext cx="5486400" cy="824040"/>
            <a:chOff x="1905120" y="2041560"/>
            <a:chExt cx="5486400" cy="824040"/>
          </a:xfrm>
        </p:grpSpPr>
        <p:sp>
          <p:nvSpPr>
            <p:cNvPr id="321" name=""/>
            <p:cNvSpPr/>
            <p:nvPr/>
          </p:nvSpPr>
          <p:spPr>
            <a:xfrm>
              <a:off x="1905120" y="24382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49040" y="2041560"/>
              <a:ext cx="4946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quest (broad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er hat hier IP-Adresse 1.2.3.4?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50680" y="3641760"/>
            <a:ext cx="5868000" cy="1189800"/>
            <a:chOff x="1750680" y="3641760"/>
            <a:chExt cx="5868000" cy="1189800"/>
          </a:xfrm>
        </p:grpSpPr>
        <p:sp>
          <p:nvSpPr>
            <p:cNvPr id="324" name=""/>
            <p:cNvSpPr/>
            <p:nvPr/>
          </p:nvSpPr>
          <p:spPr>
            <a:xfrm>
              <a:off x="1905120" y="4038480"/>
              <a:ext cx="533376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50680" y="3641760"/>
              <a:ext cx="5868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RP-Reply (unicas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habe IP-Adresse 1.2.3.4, und me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-Adresse ist a.b.c.d.e.f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880" y="4268880"/>
            <a:ext cx="3041280" cy="1973160"/>
            <a:chOff x="533880" y="4268880"/>
            <a:chExt cx="3041280" cy="1973160"/>
          </a:xfrm>
        </p:grpSpPr>
        <p:sp>
          <p:nvSpPr>
            <p:cNvPr id="327" name=""/>
            <p:cNvSpPr/>
            <p:nvPr/>
          </p:nvSpPr>
          <p:spPr>
            <a:xfrm>
              <a:off x="107316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240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3880" y="4268880"/>
              <a:ext cx="13708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797440" y="2440080"/>
            <a:ext cx="3043080" cy="5486040"/>
            <a:chOff x="5797440" y="2440080"/>
            <a:chExt cx="3043080" cy="5486040"/>
          </a:xfrm>
        </p:grpSpPr>
        <p:sp>
          <p:nvSpPr>
            <p:cNvPr id="331" name=""/>
            <p:cNvSpPr/>
            <p:nvPr/>
          </p:nvSpPr>
          <p:spPr>
            <a:xfrm>
              <a:off x="5797440" y="5264280"/>
              <a:ext cx="2502000" cy="977760"/>
            </a:xfrm>
            <a:prstGeom prst="ellipse">
              <a:avLst/>
            </a:prstGeom>
            <a:solidFill>
              <a:srgbClr val="99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6680" y="5546880"/>
              <a:ext cx="1721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RP-Cac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9280" y="2440080"/>
              <a:ext cx="1371240" cy="548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04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042"/>
                </a:path>
              </a:pathLst>
            </a:custGeom>
            <a:noFill/>
            <a:ln cap="rnd" w="2556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R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C99C-6204-4620-92BB-A296BA9165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5C21-2D1B-48F9-A2D3-162FDAF69B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-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mpelstes Internet-Protokoll auf Transportebene (Ebene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l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gesichert - “fire and forge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: z.B. DNS, NF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usätzlich zum 20 Byte IP-Header noch zwei 16 bit Portnummern, 16 bit Länge und eine 16 bit Prüfsum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738A-7F1C-4E24-A5FA-67D67D4173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"/>
          <p:cNvGrpSpPr/>
          <p:nvPr/>
        </p:nvGrpSpPr>
        <p:grpSpPr>
          <a:xfrm>
            <a:off x="692280" y="1758960"/>
            <a:ext cx="7226280" cy="596880"/>
            <a:chOff x="692280" y="1758960"/>
            <a:chExt cx="7226280" cy="596880"/>
          </a:xfrm>
        </p:grpSpPr>
        <p:sp>
          <p:nvSpPr>
            <p:cNvPr id="338" name=""/>
            <p:cNvSpPr/>
            <p:nvPr/>
          </p:nvSpPr>
          <p:spPr>
            <a:xfrm>
              <a:off x="692280" y="1758960"/>
              <a:ext cx="722628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2800" y="1828800"/>
              <a:ext cx="4612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92280" y="2444760"/>
            <a:ext cx="7226280" cy="2425680"/>
            <a:chOff x="692280" y="2444760"/>
            <a:chExt cx="7226280" cy="2425680"/>
          </a:xfrm>
        </p:grpSpPr>
        <p:sp>
          <p:nvSpPr>
            <p:cNvPr id="341" name=""/>
            <p:cNvSpPr/>
            <p:nvPr/>
          </p:nvSpPr>
          <p:spPr>
            <a:xfrm>
              <a:off x="6922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49880" y="244476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2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49880" y="3206880"/>
              <a:ext cx="35686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92280" y="3968640"/>
              <a:ext cx="7226280" cy="9018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681120" y="2422440"/>
            <a:ext cx="3571920" cy="695520"/>
            <a:chOff x="681120" y="2422440"/>
            <a:chExt cx="3571920" cy="695520"/>
          </a:xfrm>
        </p:grpSpPr>
        <p:sp>
          <p:nvSpPr>
            <p:cNvPr id="347" name=""/>
            <p:cNvSpPr/>
            <p:nvPr/>
          </p:nvSpPr>
          <p:spPr>
            <a:xfrm>
              <a:off x="681120" y="244476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78400" y="2422440"/>
              <a:ext cx="3086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ource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208400" y="2438280"/>
            <a:ext cx="3752640" cy="695520"/>
            <a:chOff x="4208400" y="2438280"/>
            <a:chExt cx="3752640" cy="695520"/>
          </a:xfrm>
        </p:grpSpPr>
        <p:sp>
          <p:nvSpPr>
            <p:cNvPr id="350" name=""/>
            <p:cNvSpPr/>
            <p:nvPr/>
          </p:nvSpPr>
          <p:spPr>
            <a:xfrm>
              <a:off x="4343400" y="2460600"/>
              <a:ext cx="3571920" cy="673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08400" y="2438280"/>
              <a:ext cx="375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estination por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692280" y="3184560"/>
            <a:ext cx="3571920" cy="695160"/>
            <a:chOff x="692280" y="3184560"/>
            <a:chExt cx="3571920" cy="695160"/>
          </a:xfrm>
        </p:grpSpPr>
        <p:sp>
          <p:nvSpPr>
            <p:cNvPr id="353" name=""/>
            <p:cNvSpPr/>
            <p:nvPr/>
          </p:nvSpPr>
          <p:spPr>
            <a:xfrm>
              <a:off x="69228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46560" y="3184560"/>
              <a:ext cx="177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Lä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338720" y="3184560"/>
            <a:ext cx="3571920" cy="695160"/>
            <a:chOff x="4338720" y="3184560"/>
            <a:chExt cx="3571920" cy="695160"/>
          </a:xfrm>
        </p:grpSpPr>
        <p:sp>
          <p:nvSpPr>
            <p:cNvPr id="356" name=""/>
            <p:cNvSpPr/>
            <p:nvPr/>
          </p:nvSpPr>
          <p:spPr>
            <a:xfrm>
              <a:off x="4338720" y="3206880"/>
              <a:ext cx="3571920" cy="6728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96280" y="3184560"/>
              <a:ext cx="2576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 Prüfsum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81120" y="3946680"/>
            <a:ext cx="7237440" cy="923760"/>
            <a:chOff x="681120" y="3946680"/>
            <a:chExt cx="7237440" cy="923760"/>
          </a:xfrm>
        </p:grpSpPr>
        <p:sp>
          <p:nvSpPr>
            <p:cNvPr id="359" name=""/>
            <p:cNvSpPr/>
            <p:nvPr/>
          </p:nvSpPr>
          <p:spPr>
            <a:xfrm>
              <a:off x="681120" y="3973680"/>
              <a:ext cx="7237440" cy="8967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63840" y="3946680"/>
              <a:ext cx="168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1752480"/>
            <a:ext cx="7226280" cy="596880"/>
            <a:chOff x="685800" y="1752480"/>
            <a:chExt cx="7226280" cy="596880"/>
          </a:xfrm>
        </p:grpSpPr>
        <p:sp>
          <p:nvSpPr>
            <p:cNvPr id="363" name=""/>
            <p:cNvSpPr/>
            <p:nvPr/>
          </p:nvSpPr>
          <p:spPr>
            <a:xfrm>
              <a:off x="685800" y="1752480"/>
              <a:ext cx="722628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6320" y="1822320"/>
              <a:ext cx="4612320" cy="458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4652-F2AB-4241-B1C5-DA44A6C8BE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r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 und TCP verwenden “Ports” als Erweiterung der IP-Adres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Datenübertragung ist durch 4 Adressen gekennzeichne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ll-Adresse, Quel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el-Adresse, Ziel-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rts beschreiben einen Prozess auf einem Rech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926B-D6AE-45BD-AD11-8109E0F747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: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bindungsorientiert (wie Telef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sicherte Verbindung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es kommt an, in der richtigen Reihenfolge, und nicht dopp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Internet-Anwendungen verwenden TC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itaus komplexer als UD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-Server Modell üb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sucht, Netzüberlast zu verme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1F577-3687-4804-A909-77354BD046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692280" y="1758960"/>
            <a:ext cx="7226280" cy="444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92280" y="2292480"/>
            <a:ext cx="7226280" cy="3797280"/>
            <a:chOff x="692280" y="2292480"/>
            <a:chExt cx="7226280" cy="3797280"/>
          </a:xfrm>
        </p:grpSpPr>
        <p:sp>
          <p:nvSpPr>
            <p:cNvPr id="371" name=""/>
            <p:cNvSpPr/>
            <p:nvPr/>
          </p:nvSpPr>
          <p:spPr>
            <a:xfrm>
              <a:off x="6922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49880" y="22924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280" y="282564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2280" y="33591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3498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2280" y="3892680"/>
              <a:ext cx="3568680" cy="444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22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49880" y="4425840"/>
              <a:ext cx="35686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280" y="4959360"/>
              <a:ext cx="7226280" cy="444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2280" y="5492880"/>
              <a:ext cx="7226280" cy="596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692280" y="2270160"/>
            <a:ext cx="7270560" cy="466560"/>
            <a:chOff x="692280" y="2270160"/>
            <a:chExt cx="7270560" cy="466560"/>
          </a:xfrm>
        </p:grpSpPr>
        <p:grpSp>
          <p:nvGrpSpPr>
            <p:cNvPr id="382" name=""/>
            <p:cNvGrpSpPr/>
            <p:nvPr/>
          </p:nvGrpSpPr>
          <p:grpSpPr>
            <a:xfrm>
              <a:off x="692280" y="2270160"/>
              <a:ext cx="3571920" cy="466560"/>
              <a:chOff x="692280" y="2270160"/>
              <a:chExt cx="3571920" cy="466560"/>
            </a:xfrm>
          </p:grpSpPr>
          <p:sp>
            <p:nvSpPr>
              <p:cNvPr id="383" name=""/>
              <p:cNvSpPr/>
              <p:nvPr/>
            </p:nvSpPr>
            <p:spPr>
              <a:xfrm>
                <a:off x="69228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89560" y="2270160"/>
                <a:ext cx="3086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Source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4210200" y="2270160"/>
              <a:ext cx="3752640" cy="466560"/>
              <a:chOff x="4210200" y="2270160"/>
              <a:chExt cx="3752640" cy="466560"/>
            </a:xfrm>
          </p:grpSpPr>
          <p:sp>
            <p:nvSpPr>
              <p:cNvPr id="386" name=""/>
              <p:cNvSpPr/>
              <p:nvPr/>
            </p:nvSpPr>
            <p:spPr>
              <a:xfrm>
                <a:off x="4344840" y="2287440"/>
                <a:ext cx="357192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210200" y="2270160"/>
                <a:ext cx="375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stination port 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92280" y="2803680"/>
            <a:ext cx="7226280" cy="466560"/>
            <a:chOff x="692280" y="2803680"/>
            <a:chExt cx="7226280" cy="466560"/>
          </a:xfrm>
        </p:grpSpPr>
        <p:sp>
          <p:nvSpPr>
            <p:cNvPr id="389" name=""/>
            <p:cNvSpPr/>
            <p:nvPr/>
          </p:nvSpPr>
          <p:spPr>
            <a:xfrm>
              <a:off x="692280" y="282096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08720" y="2803680"/>
              <a:ext cx="28094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92280" y="3336840"/>
            <a:ext cx="7226280" cy="466920"/>
            <a:chOff x="692280" y="3336840"/>
            <a:chExt cx="7226280" cy="466920"/>
          </a:xfrm>
        </p:grpSpPr>
        <p:sp>
          <p:nvSpPr>
            <p:cNvPr id="392" name=""/>
            <p:cNvSpPr/>
            <p:nvPr/>
          </p:nvSpPr>
          <p:spPr>
            <a:xfrm>
              <a:off x="692280" y="33544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74040" y="3336840"/>
              <a:ext cx="4084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nowledgement 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1880" y="3870360"/>
            <a:ext cx="1014120" cy="466560"/>
            <a:chOff x="551880" y="3870360"/>
            <a:chExt cx="1014120" cy="466560"/>
          </a:xfrm>
        </p:grpSpPr>
        <p:sp>
          <p:nvSpPr>
            <p:cNvPr id="395" name=""/>
            <p:cNvSpPr/>
            <p:nvPr/>
          </p:nvSpPr>
          <p:spPr>
            <a:xfrm>
              <a:off x="692280" y="3887640"/>
              <a:ext cx="74916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1880" y="3870360"/>
              <a:ext cx="101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.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319400" y="3870360"/>
            <a:ext cx="1506240" cy="466560"/>
            <a:chOff x="1319400" y="3870360"/>
            <a:chExt cx="1506240" cy="466560"/>
          </a:xfrm>
        </p:grpSpPr>
        <p:sp>
          <p:nvSpPr>
            <p:cNvPr id="398" name=""/>
            <p:cNvSpPr/>
            <p:nvPr/>
          </p:nvSpPr>
          <p:spPr>
            <a:xfrm>
              <a:off x="1509840" y="3887640"/>
              <a:ext cx="115092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9400" y="3870360"/>
              <a:ext cx="1506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Reser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727360" y="3870360"/>
            <a:ext cx="1539720" cy="466560"/>
            <a:chOff x="2727360" y="3870360"/>
            <a:chExt cx="1539720" cy="466560"/>
          </a:xfrm>
        </p:grpSpPr>
        <p:grpSp>
          <p:nvGrpSpPr>
            <p:cNvPr id="401" name=""/>
            <p:cNvGrpSpPr/>
            <p:nvPr/>
          </p:nvGrpSpPr>
          <p:grpSpPr>
            <a:xfrm>
              <a:off x="2728800" y="3870360"/>
              <a:ext cx="1532160" cy="466560"/>
              <a:chOff x="2728800" y="3870360"/>
              <a:chExt cx="1532160" cy="466560"/>
            </a:xfrm>
          </p:grpSpPr>
          <p:sp>
            <p:nvSpPr>
              <p:cNvPr id="402" name=""/>
              <p:cNvSpPr/>
              <p:nvPr/>
            </p:nvSpPr>
            <p:spPr>
              <a:xfrm>
                <a:off x="2728800" y="3887640"/>
                <a:ext cx="1532160" cy="449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351240" y="3870360"/>
                <a:ext cx="244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2727360" y="387036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la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349880" y="3870360"/>
            <a:ext cx="3568680" cy="466560"/>
            <a:chOff x="4349880" y="3870360"/>
            <a:chExt cx="3568680" cy="466560"/>
          </a:xfrm>
        </p:grpSpPr>
        <p:sp>
          <p:nvSpPr>
            <p:cNvPr id="406" name=""/>
            <p:cNvSpPr/>
            <p:nvPr/>
          </p:nvSpPr>
          <p:spPr>
            <a:xfrm>
              <a:off x="4349880" y="388764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127120" y="3870360"/>
              <a:ext cx="192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ow si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92280" y="4403880"/>
            <a:ext cx="3568680" cy="466560"/>
            <a:chOff x="692280" y="4403880"/>
            <a:chExt cx="3568680" cy="466560"/>
          </a:xfrm>
        </p:grpSpPr>
        <p:sp>
          <p:nvSpPr>
            <p:cNvPr id="409" name=""/>
            <p:cNvSpPr/>
            <p:nvPr/>
          </p:nvSpPr>
          <p:spPr>
            <a:xfrm>
              <a:off x="6922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9320" y="4403880"/>
              <a:ext cx="2247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 checks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349880" y="4403880"/>
            <a:ext cx="3568680" cy="466560"/>
            <a:chOff x="4349880" y="4403880"/>
            <a:chExt cx="3568680" cy="466560"/>
          </a:xfrm>
        </p:grpSpPr>
        <p:sp>
          <p:nvSpPr>
            <p:cNvPr id="412" name=""/>
            <p:cNvSpPr/>
            <p:nvPr/>
          </p:nvSpPr>
          <p:spPr>
            <a:xfrm>
              <a:off x="4349880" y="4421160"/>
              <a:ext cx="35686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45680" y="4403880"/>
              <a:ext cx="2286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rgent poin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92280" y="4937040"/>
            <a:ext cx="7226280" cy="466920"/>
            <a:chOff x="692280" y="4937040"/>
            <a:chExt cx="7226280" cy="466920"/>
          </a:xfrm>
        </p:grpSpPr>
        <p:sp>
          <p:nvSpPr>
            <p:cNvPr id="415" name=""/>
            <p:cNvSpPr/>
            <p:nvPr/>
          </p:nvSpPr>
          <p:spPr>
            <a:xfrm>
              <a:off x="692280" y="4954680"/>
              <a:ext cx="7226280" cy="4492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34360" y="4937040"/>
              <a:ext cx="4362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ption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92280" y="5470560"/>
            <a:ext cx="7226280" cy="619200"/>
            <a:chOff x="692280" y="5470560"/>
            <a:chExt cx="7226280" cy="619200"/>
          </a:xfrm>
        </p:grpSpPr>
        <p:sp>
          <p:nvSpPr>
            <p:cNvPr id="418" name=""/>
            <p:cNvSpPr/>
            <p:nvPr/>
          </p:nvSpPr>
          <p:spPr>
            <a:xfrm>
              <a:off x="692280" y="5491080"/>
              <a:ext cx="7226280" cy="5986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59120" y="5470560"/>
              <a:ext cx="45162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utzdaten (sofern vorhand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Paket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85800" y="1676520"/>
            <a:ext cx="7226280" cy="824040"/>
            <a:chOff x="685800" y="1676520"/>
            <a:chExt cx="7226280" cy="824040"/>
          </a:xfrm>
        </p:grpSpPr>
        <p:sp>
          <p:nvSpPr>
            <p:cNvPr id="422" name=""/>
            <p:cNvSpPr/>
            <p:nvPr/>
          </p:nvSpPr>
          <p:spPr>
            <a:xfrm>
              <a:off x="685800" y="1676520"/>
              <a:ext cx="7226280" cy="527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38080" y="1676520"/>
              <a:ext cx="4513320" cy="82404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 Header (20 Byte + Optionen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471C8-418B-4B45-9634-0C0F2DE724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quence / Ack numb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quence number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mer des ersten Bytes in diesem Segment (Flags zählen m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nowledgement numbe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e Sequence number, die als nächste erwartet w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02EF-79CA-4D98-950F-88DF9F490F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Flag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G - urgent point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K - acknowledgement number ist gült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SH - Empfänger soll sofort verarbeiten (pus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ST - Reset der Verbind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 - Verbindungsauf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 - Verbindungsabba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BF0D-4B95-4985-BB43-2F4A5931F8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Window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 siz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 Empfänger bestimmt, wieviel Daten er noch aufnehmen will (z.B. Puffergröß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nn der Empfänger (wieder) mehr Daten verarbeiten kann, sendet er ein “Window updat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Window size 0 kann nichts mehr gesendet werden, bis der Empfänger sein Window wieder öffnet (window upda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5777-89B5-40F4-B9E0-0A0D4B3C0E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981080" y="2193840"/>
            <a:ext cx="5486400" cy="824040"/>
            <a:chOff x="1981080" y="2193840"/>
            <a:chExt cx="5486400" cy="824040"/>
          </a:xfrm>
        </p:grpSpPr>
        <p:sp>
          <p:nvSpPr>
            <p:cNvPr id="435" name=""/>
            <p:cNvSpPr/>
            <p:nvPr/>
          </p:nvSpPr>
          <p:spPr>
            <a:xfrm>
              <a:off x="1981080" y="259092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94120" y="2193840"/>
              <a:ext cx="481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981080" y="3413160"/>
            <a:ext cx="5472720" cy="824040"/>
            <a:chOff x="1981080" y="3413160"/>
            <a:chExt cx="5472720" cy="824040"/>
          </a:xfrm>
        </p:grpSpPr>
        <p:sp>
          <p:nvSpPr>
            <p:cNvPr id="438" name=""/>
            <p:cNvSpPr/>
            <p:nvPr/>
          </p:nvSpPr>
          <p:spPr>
            <a:xfrm>
              <a:off x="1981080" y="3809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6680" y="3413160"/>
              <a:ext cx="5397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YN + 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. Meine initial sequence no. ist..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981080" y="4632480"/>
            <a:ext cx="5486400" cy="824040"/>
            <a:chOff x="1981080" y="4632480"/>
            <a:chExt cx="5486400" cy="824040"/>
          </a:xfrm>
        </p:grpSpPr>
        <p:sp>
          <p:nvSpPr>
            <p:cNvPr id="441" name=""/>
            <p:cNvSpPr/>
            <p:nvPr/>
          </p:nvSpPr>
          <p:spPr>
            <a:xfrm>
              <a:off x="1981080" y="502920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79520" y="4632480"/>
              <a:ext cx="83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K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uf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157B-D685-4B86-90F3-4EE5EFBDA5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981080" y="1812960"/>
            <a:ext cx="5486400" cy="824040"/>
            <a:chOff x="1981080" y="1812960"/>
            <a:chExt cx="5486400" cy="824040"/>
          </a:xfrm>
        </p:grpSpPr>
        <p:sp>
          <p:nvSpPr>
            <p:cNvPr id="449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16320" y="18129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52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70120" y="27273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981080" y="3641760"/>
            <a:ext cx="5486400" cy="824040"/>
            <a:chOff x="1981080" y="3641760"/>
            <a:chExt cx="5486400" cy="824040"/>
          </a:xfrm>
        </p:grpSpPr>
        <p:sp>
          <p:nvSpPr>
            <p:cNvPr id="455" name=""/>
            <p:cNvSpPr/>
            <p:nvPr/>
          </p:nvSpPr>
          <p:spPr>
            <a:xfrm>
              <a:off x="1981080" y="4038480"/>
              <a:ext cx="5486400" cy="0"/>
            </a:xfrm>
            <a:prstGeom prst="line">
              <a:avLst/>
            </a:prstGeom>
            <a:ln w="50760">
              <a:solidFill>
                <a:srgbClr val="ff66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6320" y="36417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981080" y="4556160"/>
            <a:ext cx="5334120" cy="824040"/>
            <a:chOff x="1981080" y="4556160"/>
            <a:chExt cx="5334120" cy="824040"/>
          </a:xfrm>
        </p:grpSpPr>
        <p:sp>
          <p:nvSpPr>
            <p:cNvPr id="458" name=""/>
            <p:cNvSpPr/>
            <p:nvPr/>
          </p:nvSpPr>
          <p:spPr>
            <a:xfrm>
              <a:off x="1981080" y="49528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70120" y="4556160"/>
              <a:ext cx="4162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en, ACK, window upd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oder Teile dav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 ste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4722E-C4F5-4A5E-B498-F3B60B1790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dware-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wicklung seit 1983 (DAR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zentrale Verwalt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 zentraler Knoten (im Gegensatz zu SN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fallsicherheit als Designziel (D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Paket-per-Pak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4FEC-B681-4380-A93D-0C31217900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692280" y="1758960"/>
            <a:ext cx="901440" cy="44830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78880" y="1758960"/>
            <a:ext cx="901440" cy="44830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59440" y="173664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27040" y="1736640"/>
            <a:ext cx="110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1406880" y="1812960"/>
            <a:ext cx="6194160" cy="824040"/>
            <a:chOff x="1406880" y="1812960"/>
            <a:chExt cx="6194160" cy="824040"/>
          </a:xfrm>
        </p:grpSpPr>
        <p:sp>
          <p:nvSpPr>
            <p:cNvPr id="466" name=""/>
            <p:cNvSpPr/>
            <p:nvPr/>
          </p:nvSpPr>
          <p:spPr>
            <a:xfrm>
              <a:off x="1981080" y="220968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06880" y="181296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981080" y="2727360"/>
            <a:ext cx="5334120" cy="824040"/>
            <a:chOff x="1981080" y="2727360"/>
            <a:chExt cx="5334120" cy="824040"/>
          </a:xfrm>
        </p:grpSpPr>
        <p:sp>
          <p:nvSpPr>
            <p:cNvPr id="469" name=""/>
            <p:cNvSpPr/>
            <p:nvPr/>
          </p:nvSpPr>
          <p:spPr>
            <a:xfrm>
              <a:off x="1981080" y="312408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99680" y="272736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660680" y="4175280"/>
            <a:ext cx="6194160" cy="824040"/>
            <a:chOff x="1660680" y="4175280"/>
            <a:chExt cx="6194160" cy="824040"/>
          </a:xfrm>
        </p:grpSpPr>
        <p:sp>
          <p:nvSpPr>
            <p:cNvPr id="472" name=""/>
            <p:cNvSpPr/>
            <p:nvPr/>
          </p:nvSpPr>
          <p:spPr>
            <a:xfrm>
              <a:off x="1981080" y="4572000"/>
              <a:ext cx="5334120" cy="0"/>
            </a:xfrm>
            <a:prstGeom prst="line">
              <a:avLst/>
            </a:prstGeom>
            <a:ln w="50760">
              <a:solidFill>
                <a:srgbClr val="ffcc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660680" y="4175280"/>
              <a:ext cx="6194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ch bin fertig und will nicht mehr se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81080" y="5089680"/>
            <a:ext cx="5486400" cy="824040"/>
            <a:chOff x="1981080" y="5089680"/>
            <a:chExt cx="5486400" cy="824040"/>
          </a:xfrm>
        </p:grpSpPr>
        <p:sp>
          <p:nvSpPr>
            <p:cNvPr id="475" name=""/>
            <p:cNvSpPr/>
            <p:nvPr/>
          </p:nvSpPr>
          <p:spPr>
            <a:xfrm>
              <a:off x="1981080" y="5486400"/>
              <a:ext cx="5486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45520" y="5089680"/>
              <a:ext cx="310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CK des F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ke, verstande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 - Verbindungsabbau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A01E-3E80-4E97-9C39-811727FF434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1C27-04D8-4187-93CD-4E05D75D33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-Adressen sind 32 bit organisier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Class-A, Class-B und Class-C Netze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se unterscheiden sich durch die Netzmaske, die angibt, welcher Teil der Adresse das Netz und welcher den Rechner innerhalb des Netzes bezeichn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Entscheidungen werden nur nach dem Netz-Teil der Adresse getroff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5F43-5CAE-4AE2-9C44-A852B50839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"/>
          <p:cNvGrpSpPr/>
          <p:nvPr/>
        </p:nvGrpSpPr>
        <p:grpSpPr>
          <a:xfrm>
            <a:off x="723240" y="1682640"/>
            <a:ext cx="8033400" cy="596880"/>
            <a:chOff x="723240" y="1682640"/>
            <a:chExt cx="8033400" cy="596880"/>
          </a:xfrm>
        </p:grpSpPr>
        <p:sp>
          <p:nvSpPr>
            <p:cNvPr id="483" name=""/>
            <p:cNvSpPr/>
            <p:nvPr/>
          </p:nvSpPr>
          <p:spPr>
            <a:xfrm>
              <a:off x="723240" y="1736640"/>
              <a:ext cx="1193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9840" y="168264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636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92880" y="168264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9040" y="168264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720000" y="2374920"/>
            <a:ext cx="8036640" cy="596880"/>
            <a:chOff x="720000" y="2374920"/>
            <a:chExt cx="8036640" cy="596880"/>
          </a:xfrm>
        </p:grpSpPr>
        <p:sp>
          <p:nvSpPr>
            <p:cNvPr id="489" name=""/>
            <p:cNvSpPr/>
            <p:nvPr/>
          </p:nvSpPr>
          <p:spPr>
            <a:xfrm>
              <a:off x="720000" y="2428920"/>
              <a:ext cx="1197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3984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16360" y="2374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92880" y="2374920"/>
              <a:ext cx="15872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69040" y="23749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724680" y="3060720"/>
            <a:ext cx="8031960" cy="596880"/>
            <a:chOff x="724680" y="3060720"/>
            <a:chExt cx="8031960" cy="596880"/>
          </a:xfrm>
        </p:grpSpPr>
        <p:sp>
          <p:nvSpPr>
            <p:cNvPr id="495" name=""/>
            <p:cNvSpPr/>
            <p:nvPr/>
          </p:nvSpPr>
          <p:spPr>
            <a:xfrm>
              <a:off x="724680" y="3114720"/>
              <a:ext cx="1190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lass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984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16360" y="30607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492880" y="30607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69040" y="3060720"/>
              <a:ext cx="158760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685800" y="4495680"/>
            <a:ext cx="8077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gibt nur wenige Class B und noch weniger Class A Net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 C-Netze, oder Blöcke davon, sind das Übl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Klassen wurden eingeführt, um die Tabellen in den Rou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lein zu hal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 ist möglich, die Netzmaske unabhängig von der Klasse frei z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zen, um ein Netz weiter zu unterteilen (subnett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718560" y="3733920"/>
            <a:ext cx="8044560" cy="596880"/>
            <a:chOff x="718560" y="3733920"/>
            <a:chExt cx="8044560" cy="596880"/>
          </a:xfrm>
        </p:grpSpPr>
        <p:sp>
          <p:nvSpPr>
            <p:cNvPr id="503" name=""/>
            <p:cNvSpPr/>
            <p:nvPr/>
          </p:nvSpPr>
          <p:spPr>
            <a:xfrm>
              <a:off x="718560" y="3787920"/>
              <a:ext cx="1539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bn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z.B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4632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22840" y="3733920"/>
              <a:ext cx="158724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99000" y="3733920"/>
              <a:ext cx="158760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4680" y="3733920"/>
              <a:ext cx="838440" cy="59688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162920" y="3733920"/>
              <a:ext cx="761760" cy="5968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61625"/>
              <a:gd name="adj2" fmla="val 172398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89717"/>
              <a:gd name="adj2" fmla="val 286981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-17944"/>
              <a:gd name="adj2" fmla="val 4143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609480"/>
            <a:ext cx="2362320" cy="609840"/>
          </a:xfrm>
          <a:prstGeom prst="wedgeRoundRectCallout">
            <a:avLst>
              <a:gd name="adj1" fmla="val 14851"/>
              <a:gd name="adj2" fmla="val 501824"/>
              <a:gd name="adj3" fmla="val 1666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5.255.255.2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459C-B115-4102-A0F0-8B9F179CF2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etzmask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4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e &amp; Netzmas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bitweises UN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Netz-Teil der Adresse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92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8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53.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Host-Teil der Adresse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0.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6633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D3649-D293-4130-B873-6F2D443F44C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Ablau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fspalten der Zieladresse in Netz- und Host-Teil (durch AND mit der Netzmask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chsuchen der Routing-Tabelle nach dem errechneten Netzte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gefunden: An das in der Tabelle eingetragene Interface senden (next ho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nst: Zur Default-Route, falls vorhan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sonsten: ICMP “Network unreachable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38B5-F6A0-4B80-BA37-281A4EFB44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ting-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-Protokolle dienen dazu, die Routingtabellen automatisch zu pflegen, wenn z.B. Wege unpassierbar we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 gibt verschiedene 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P: Fuer LAN geeignet, vie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P, BGP: Fuer WAN / ASN zu AS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ter UNIX in routed (nur RIP) bzw. gated implem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498A-F3F9-4C73-8F8F-FB36DED6A2D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ür Menschen sind numerische Adressen schwer merkb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sorgt das DNS (Domain Name System) dafür, daß leichter merkbare Namen verwendet werden kö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eserver bilden eine weltweit verteilte Daten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C9EFC-AB27-4A43-B22C-EBBA075B7E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meserv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Namen sind hierarchisch organisiert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.B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box.congress.ccc.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Anfrage fragt n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? Deutschland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ni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c.de? Chaos!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ress.ccc.de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s.congress.ccc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at: 195.21.208.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C01B-8834-41C2-A6AF-A40B3503E11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das Netz an einer Stelle stark belastet ist (z.B. Übergang vom LAN ins langsamere WAN), gehen Pakete verlor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nun der Sender weiter mit voller Kapazität sendet, wird die Situation nur schlimm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0B02-92F8-49DA-B7B4-5E2CB22655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/IP und da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kationsunabhängi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: “RFC” (Request for Comment), numeriert - auf vielen Servern verfügbar, z.B. ftp://rtfm.mit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ch auf der Chaos-CD enthal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 Gegensatz zu den ISO/OSI-Protokollen kein “offizieller” Standard, aber weithin akzep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8DC4C-FB82-4E6C-8EB3-2093A77ACE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ermeidung von Überlas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 hat zwei Mechanismen zur Vermeidung von Überlast: Slow Start und Congestion Avoid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FC04-8EAC-49CF-9CC4-EA24B37979F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low Sta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e TCP-Verbindung beginnt nicht, mit der Window-Größe zu senden, die die Gegenseite annonciert, sondern sendet zunächst nur ein Seg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effektive Window-Groesse wird nun mit jedem eingetroffenen ACK um ein weiteres Segment erhöht, bis die Windowgröße erreicht i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8C389-FB0E-41F5-8158-CB3D2FE89B6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gestion Avoi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nn zwischendurch Pakete verlorengehen (erkennbar daran, daß doppelte ACK-Nachrichten eintreffen), wird das fehlende Paket erneut gesendet (retransm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Datenrate wird dann vermindert und steigt langsam wieder 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77A7-BD34-45FB-9803-DDE346D1CF0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64027-EDF1-44F7-B35D-43CE8ED5DB7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meisten Anwendungen basieren auf TCP, nur wenige auf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DP-basierend sind NFS (Network File System) und D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761B-BF0D-4170-8531-193466786C2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: Network File System, entwickelt von Su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v langsam, aber extrem stabil. Das Protokoll ist “stateless”, d.h. alle Status-information liegt nur auf dem Client. Der Server kann zwischendurch neu starten, ohne daß der Client dies normalerweise merkt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FS Version 2 kann auch TCP verwend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CC09-D9D8-4E84-B2A6-44F275C7D08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D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NS: Domain Name syst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fragen über UDP bei den Name Servern a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 Server antworten ihrerseits per UD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ceroute: Feststellen, wie meine Daten zum Empfänger komme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r aktuelles Bild, das nächste Paket kann schon einen anderen Weg nehm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97A1-DFBB-44FD-BC5D-76183468B8F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CP-Anwendung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net: Terminal-Emulation, log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SH: Das “bessere Telnet”, verschlüss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TP: Dateitrans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 Übertragungsprotokoll des WW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TP, POP3: Electronic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8A6B-4273-49D7-8B15-76E06513050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A1E0-216C-4DE5-9651-BB9B1CEC978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ses Thema bildet einen besonderen Schwerpunkt morg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her hier nur ein knapper Überblic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EB57A-C87F-4F43-B595-AD652B3801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P/IP und das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Protoko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Schichtenmod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ahoma"/>
              </a:rPr>
              <a:t>IP, UDP, TCP, AR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uting und Congest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wendu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griffspunk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5C67-4232-4782-89DE-2A059E6E00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griffspunk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nial of Service: Berechtigte Nutzer können nicht arbei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sspähen von Daten durch passives Mitles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fälschen von Daten unterwe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ktiver Eingriff in Netzknoten (Rechner, Route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P Spoo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6CC5-F683-4959-9956-3FC785BE2ED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nial of Servi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ood ping usw.: Überlasten eines Netzes oder Rechn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ng mit zu großen Pake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-floo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egale Fragm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uht meist auf Fehlern in der IP-Implementierung des angegriffene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A1261-0117-476F-B5AA-EE34B6EE036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usspäh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(Sniffer) im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i Ethernet einf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ur Fehleranalyse oder Spio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find, tcpdump, RMON-Pro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tlesen in WAN-Zwischenstationen, z.B. beim Internet-Prov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-Dateien, z.B. WWW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C4743-9444-447F-ACDD-1B5397C10F8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inschleusen von Date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schleusen anderer Daten (unter falscher Identitä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Übernahme (hijacking) bestehender Verbindungen, z.B. juggerna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bei applikationsspezifischen Client-Server-Systemen, z.B. Datenban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2CAE-EA19-45B4-BEF5-E3DBD97DC30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P Spoof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zen der Quell-Adresse im IP-Header auf eine andere Adres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 eine Adresse im angegriffenen 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s für weitere Attack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ine Antwort mögli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fache Protokolle, wie SMTP, funktionieren auch ohne Antwort (Antwort vorhersehbar) -&gt; E-Mail Sp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3E76-0DFC-4245-A61B-C668C10EB28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.Richard Stevens, TCP/IP Illustrated, Addison-Wesley (besonders Vol.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laf Kirch, Linux Network Administrators Guide, LDP bzw. O’Rei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uglas Comer, Internetworking with TCP/IP, Prentice-H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4A18B-C59E-4E03-8926-25A5CC3C58C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tokol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ketorientie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ichtenmod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ressieru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4748-4F05-4846-9076-417E59B9E4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01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95360" y="5470560"/>
              <a:ext cx="4545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: Hardware, Gerätetre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59720" y="4273560"/>
            <a:ext cx="6039720" cy="901800"/>
            <a:chOff x="2259720" y="4273560"/>
            <a:chExt cx="6039720" cy="901800"/>
          </a:xfrm>
        </p:grpSpPr>
        <p:sp>
          <p:nvSpPr>
            <p:cNvPr id="104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59720" y="4479840"/>
              <a:ext cx="514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: Paketzustellung, Rou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07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3489480"/>
              <a:ext cx="3981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: Paketsicher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261880" y="2292480"/>
            <a:ext cx="6037560" cy="901440"/>
            <a:chOff x="2261880" y="2292480"/>
            <a:chExt cx="6037560" cy="901440"/>
          </a:xfrm>
        </p:grpSpPr>
        <p:sp>
          <p:nvSpPr>
            <p:cNvPr id="110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1880" y="2575080"/>
              <a:ext cx="4533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: Benutzerproze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89D5-59DA-4A80-915C-A855A700C3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282400" y="5264280"/>
            <a:ext cx="6017040" cy="901440"/>
            <a:chOff x="2282400" y="5264280"/>
            <a:chExt cx="6017040" cy="901440"/>
          </a:xfrm>
        </p:grpSpPr>
        <p:sp>
          <p:nvSpPr>
            <p:cNvPr id="114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82400" y="5470560"/>
              <a:ext cx="597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ink: Netzwerkkarte, Gerätetreiber (A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292480" y="4273560"/>
            <a:ext cx="6006960" cy="901800"/>
            <a:chOff x="2292480" y="4273560"/>
            <a:chExt cx="6006960" cy="901800"/>
          </a:xfrm>
        </p:grpSpPr>
        <p:sp>
          <p:nvSpPr>
            <p:cNvPr id="117" name=""/>
            <p:cNvSpPr/>
            <p:nvPr/>
          </p:nvSpPr>
          <p:spPr>
            <a:xfrm>
              <a:off x="2292480" y="427356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68440" y="4479840"/>
              <a:ext cx="141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292480" y="3282840"/>
            <a:ext cx="6006960" cy="901800"/>
            <a:chOff x="2292480" y="3282840"/>
            <a:chExt cx="6006960" cy="901800"/>
          </a:xfrm>
        </p:grpSpPr>
        <p:sp>
          <p:nvSpPr>
            <p:cNvPr id="120" name=""/>
            <p:cNvSpPr/>
            <p:nvPr/>
          </p:nvSpPr>
          <p:spPr>
            <a:xfrm>
              <a:off x="2292480" y="3282840"/>
              <a:ext cx="6006960" cy="9018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66640" y="3489480"/>
              <a:ext cx="1594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292480" y="2292480"/>
            <a:ext cx="6006960" cy="901440"/>
            <a:chOff x="2292480" y="2292480"/>
            <a:chExt cx="6006960" cy="901440"/>
          </a:xfrm>
        </p:grpSpPr>
        <p:sp>
          <p:nvSpPr>
            <p:cNvPr id="123" name=""/>
            <p:cNvSpPr/>
            <p:nvPr/>
          </p:nvSpPr>
          <p:spPr>
            <a:xfrm>
              <a:off x="2292480" y="22924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351520" y="2575080"/>
              <a:ext cx="1792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92480" y="5264280"/>
            <a:ext cx="6006960" cy="901440"/>
            <a:chOff x="2292480" y="5264280"/>
            <a:chExt cx="6006960" cy="901440"/>
          </a:xfrm>
        </p:grpSpPr>
        <p:sp>
          <p:nvSpPr>
            <p:cNvPr id="126" name=""/>
            <p:cNvSpPr/>
            <p:nvPr/>
          </p:nvSpPr>
          <p:spPr>
            <a:xfrm>
              <a:off x="2292480" y="5264280"/>
              <a:ext cx="6006960" cy="901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98680" y="5470560"/>
              <a:ext cx="776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578480" y="5416560"/>
            <a:ext cx="1739880" cy="673200"/>
            <a:chOff x="4578480" y="5416560"/>
            <a:chExt cx="1739880" cy="673200"/>
          </a:xfrm>
        </p:grpSpPr>
        <p:sp>
          <p:nvSpPr>
            <p:cNvPr id="129" name=""/>
            <p:cNvSpPr/>
            <p:nvPr/>
          </p:nvSpPr>
          <p:spPr>
            <a:xfrm>
              <a:off x="4578480" y="5416560"/>
              <a:ext cx="17398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29960" y="5470560"/>
              <a:ext cx="142236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30960" y="5416560"/>
            <a:ext cx="1847520" cy="673200"/>
            <a:chOff x="6330960" y="5416560"/>
            <a:chExt cx="1847520" cy="673200"/>
          </a:xfrm>
        </p:grpSpPr>
        <p:sp>
          <p:nvSpPr>
            <p:cNvPr id="132" name=""/>
            <p:cNvSpPr/>
            <p:nvPr/>
          </p:nvSpPr>
          <p:spPr>
            <a:xfrm>
              <a:off x="6330960" y="5416560"/>
              <a:ext cx="181620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91800" y="5470560"/>
              <a:ext cx="1786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oken R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8480" y="4425840"/>
            <a:ext cx="3568680" cy="673200"/>
            <a:chOff x="4578480" y="4425840"/>
            <a:chExt cx="3568680" cy="673200"/>
          </a:xfrm>
        </p:grpSpPr>
        <p:sp>
          <p:nvSpPr>
            <p:cNvPr id="135" name=""/>
            <p:cNvSpPr/>
            <p:nvPr/>
          </p:nvSpPr>
          <p:spPr>
            <a:xfrm>
              <a:off x="4578480" y="4425840"/>
              <a:ext cx="35686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83320" y="4479840"/>
              <a:ext cx="4730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7162920" y="4572000"/>
            <a:ext cx="8841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C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578480" y="3435480"/>
            <a:ext cx="1739880" cy="672840"/>
            <a:chOff x="4578480" y="3435480"/>
            <a:chExt cx="1739880" cy="672840"/>
          </a:xfrm>
        </p:grpSpPr>
        <p:sp>
          <p:nvSpPr>
            <p:cNvPr id="139" name=""/>
            <p:cNvSpPr/>
            <p:nvPr/>
          </p:nvSpPr>
          <p:spPr>
            <a:xfrm>
              <a:off x="45784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5760" y="3489480"/>
              <a:ext cx="73080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C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407280" y="3435480"/>
            <a:ext cx="1739880" cy="672840"/>
            <a:chOff x="6407280" y="3435480"/>
            <a:chExt cx="1739880" cy="672840"/>
          </a:xfrm>
        </p:grpSpPr>
        <p:sp>
          <p:nvSpPr>
            <p:cNvPr id="142" name=""/>
            <p:cNvSpPr/>
            <p:nvPr/>
          </p:nvSpPr>
          <p:spPr>
            <a:xfrm>
              <a:off x="6407280" y="3435480"/>
              <a:ext cx="1739880" cy="6728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85840" y="3489480"/>
              <a:ext cx="8143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U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4578480" y="2444760"/>
            <a:ext cx="825480" cy="673200"/>
            <a:chOff x="4578480" y="2444760"/>
            <a:chExt cx="825480" cy="673200"/>
          </a:xfrm>
        </p:grpSpPr>
        <p:sp>
          <p:nvSpPr>
            <p:cNvPr id="145" name=""/>
            <p:cNvSpPr/>
            <p:nvPr/>
          </p:nvSpPr>
          <p:spPr>
            <a:xfrm>
              <a:off x="45784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55160" y="2498760"/>
              <a:ext cx="58752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492880" y="2444760"/>
            <a:ext cx="848160" cy="673200"/>
            <a:chOff x="5492880" y="2444760"/>
            <a:chExt cx="848160" cy="673200"/>
          </a:xfrm>
        </p:grpSpPr>
        <p:sp>
          <p:nvSpPr>
            <p:cNvPr id="148" name=""/>
            <p:cNvSpPr/>
            <p:nvPr/>
          </p:nvSpPr>
          <p:spPr>
            <a:xfrm>
              <a:off x="54928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0200" y="2498760"/>
              <a:ext cx="78084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07280" y="2444760"/>
            <a:ext cx="825480" cy="673200"/>
            <a:chOff x="6407280" y="2444760"/>
            <a:chExt cx="825480" cy="673200"/>
          </a:xfrm>
        </p:grpSpPr>
        <p:sp>
          <p:nvSpPr>
            <p:cNvPr id="151" name=""/>
            <p:cNvSpPr/>
            <p:nvPr/>
          </p:nvSpPr>
          <p:spPr>
            <a:xfrm>
              <a:off x="6407280" y="2444760"/>
              <a:ext cx="8254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89000" y="2498760"/>
              <a:ext cx="742680" cy="458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7315200" y="2438280"/>
            <a:ext cx="878760" cy="673200"/>
            <a:chOff x="7315200" y="2438280"/>
            <a:chExt cx="878760" cy="673200"/>
          </a:xfrm>
        </p:grpSpPr>
        <p:sp>
          <p:nvSpPr>
            <p:cNvPr id="154" name=""/>
            <p:cNvSpPr/>
            <p:nvPr/>
          </p:nvSpPr>
          <p:spPr>
            <a:xfrm>
              <a:off x="7315200" y="2438280"/>
              <a:ext cx="838080" cy="673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7200" y="2492280"/>
              <a:ext cx="806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chichtenmod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638680"/>
            <a:ext cx="723960" cy="824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07B1-989E-4D15-A038-CBDAF1F82A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k Lay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DLC (für WA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99DA2-538E-43AA-905C-9C651613A5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6:34Z</dcterms:created>
  <dc:creator>Jan H. Haul</dc:creator>
  <dc:description/>
  <dc:language>en-US</dc:language>
  <cp:lastModifiedBy>Hans-Joachim Haul</cp:lastModifiedBy>
  <cp:lastPrinted>1998-12-25T15:06:52Z</cp:lastPrinted>
  <dcterms:modified xsi:type="dcterms:W3CDTF">1998-12-25T15:07:46Z</dcterms:modified>
  <cp:revision>21</cp:revision>
  <dc:subject/>
  <dc:title>TCP/IP fuer Anfaenger</dc:title>
</cp:coreProperties>
</file>