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arbrake.wav" ContentType="audio/x-wav"/>
  <Override PartName="/ppt/media/The%20Microsoft%20Sound.wav" ContentType="audio/x-wav"/>
  <Override PartName="/ppt/media/image2.png" ContentType="image/png"/>
  <Override PartName="/ppt/media/image3.png" ContentType="image/png"/>
  <Override PartName="/ppt/media/clap.wav" ContentType="audio/x-wav"/>
  <Override PartName="/ppt/media/driveby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LOGOFF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  <p:custShowLst>
    <p:custShow name="Custom Show 1" id="0">
      <p:sldLst>
        <p:sld r:id="rId3"/>
        <p:sld r:id="rId5"/>
        <p:sld r:id="rId6"/>
        <p:sld r:id="rId7"/>
        <p:sld r:id="rId8"/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7D93-D446-4F20-B1AE-7BB4A90C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4B54-88DA-4530-9CB5-C7BDB647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43B6-9262-4CA5-A1BA-25CEA6623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8D24-05A2-4D8C-8F40-3B2F2AFC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D4FC-C31D-4920-A4CD-BDEAA3FB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8972-108D-42F5-80C7-4D733687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826C-F0C6-4CF6-AED9-00104F2A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5EA4-1E7D-4CF7-985F-4011F26B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3D96-7A98-4C7D-A0B0-26CAA166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7D8C-AFA2-4A8C-8C80-B3193980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5A34-DB0E-4D90-BAE4-E7D5BD1D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EAD7-0075-49F5-93BA-EA6D5447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8C34-FBCF-4B52-BF1A-0B117EACE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he%20Microsoft%20Soun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LOGOFF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" descr=""/>
          <p:cNvPicPr/>
          <p:nvPr/>
        </p:nvPicPr>
        <p:blipFill>
          <a:blip r:embed="rId1"/>
          <a:stretch/>
        </p:blipFill>
        <p:spPr>
          <a:xfrm>
            <a:off x="880920" y="704880"/>
            <a:ext cx="7380360" cy="5448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The%20Microsoft%20Sou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driveb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carbrak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clap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" descr=""/>
          <p:cNvPicPr/>
          <p:nvPr/>
        </p:nvPicPr>
        <p:blipFill>
          <a:blip r:embed="rId1"/>
          <a:stretch/>
        </p:blipFill>
        <p:spPr>
          <a:xfrm>
            <a:off x="507960" y="376200"/>
            <a:ext cx="8126280" cy="61038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LOGOFF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" descr=""/>
          <p:cNvPicPr/>
          <p:nvPr/>
        </p:nvPicPr>
        <p:blipFill>
          <a:blip r:embed="rId1"/>
          <a:stretch/>
        </p:blipFill>
        <p:spPr>
          <a:xfrm>
            <a:off x="142920" y="160200"/>
            <a:ext cx="8858160" cy="65376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3:56:44Z</dcterms:created>
  <dc:creator>DirtySlesk</dc:creator>
  <dc:description/>
  <dc:language>en-US</dc:language>
  <cp:lastModifiedBy>DirtySlesk</cp:lastModifiedBy>
  <dcterms:modified xsi:type="dcterms:W3CDTF">2000-10-04T04:47:42Z</dcterms:modified>
  <cp:revision>2</cp:revision>
  <dc:subject/>
  <dc:title> </dc:title>
</cp:coreProperties>
</file>