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F97-67FE-47FC-BF6C-361F6B0D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6218-EBBF-400C-8003-01AD47B8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9E0E-31F9-4726-9C50-B99F727D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4C25-6980-401A-9437-86B3789C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F76F3-8332-4D05-9620-D51A73C7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75031-3A95-4302-A049-BA76709A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D8A50-6547-480B-8013-295D9FF4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ED4C2-DC33-4CA6-84E5-AEFC342C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7984E-FCF7-4793-94BB-A47FB499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20B82-AE0A-407A-9992-2B81EF5B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F89D7-BCB9-4F79-BADF-01DB258D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C2A2-DD8A-4438-B9ED-F2160EB8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8AF8C-0CB2-4140-B7B6-C2C22560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D5B67-FCCA-4DEE-95BE-313294A3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48134-35CF-4C65-B049-0129CA05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8020B-B227-489D-B93C-D7963D41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79AC5-A270-4614-9DC4-1D590F30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796-B684-4B48-BF5C-6FA39A7F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FFF9-8C1D-4DC8-B6B4-D47B140A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8EF1-3061-41EA-8451-CDDC0F55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43E7-BE96-4078-83B8-8B6CDEB6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081-F4C7-489B-850A-6820801B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8D08-9972-404D-8D93-2F9346DA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22CC-F8A5-4E12-A1D1-4BE4FA7B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99B6-52E8-4AA5-966A-8737C604B7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54F6-3497-46A8-B447-4FE01D7985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0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br>
              <a:rPr sz="6000"/>
            </a:br>
            <a:r>
              <a:rPr b="1" lang="de-CH" sz="2000" spc="-1" strike="noStrike">
                <a:solidFill>
                  <a:srgbClr val="ffffff"/>
                </a:solidFill>
                <a:latin typeface="Tahoma"/>
              </a:rPr>
              <a:t>by atlan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owerpoint by robocop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music by maliktrey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2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02120" y="1916280"/>
            <a:ext cx="2909880" cy="442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27612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ahoma"/>
              </a:rPr>
              <a:t>0r w3 c@11 th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500"/>
                            </p:stCondLst>
                            <p:childTnLst>
                              <p:par>
                                <p:cTn id="3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ahoma"/>
              </a:rPr>
              <a:t>th3y w1ll @rr3st y0u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6360" y="1862280"/>
            <a:ext cx="612000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600"/>
                            </p:stCondLst>
                            <p:childTnLst>
                              <p:par>
                                <p:cTn id="331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200"/>
                            </p:stCondLst>
                            <p:childTnLst>
                              <p:par>
                                <p:cTn id="3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92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192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700"/>
                            </p:stCondLst>
                            <p:childTnLst>
                              <p:par>
                                <p:cTn id="3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200"/>
                            </p:stCondLst>
                            <p:childTnLst>
                              <p:par>
                                <p:cTn id="352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457200"/>
            <a:ext cx="2489040" cy="5943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00720" y="476280"/>
            <a:ext cx="248292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348000" y="476280"/>
            <a:ext cx="23763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j@1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1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funn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200"/>
                            </p:stCondLst>
                            <p:childTnLst>
                              <p:par>
                                <p:cTn id="413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41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250" autoRev="1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200"/>
                            </p:stCondLst>
                            <p:childTnLst>
                              <p:par>
                                <p:cTn id="421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250" autoRev="1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3200"/>
                            </p:stCondLst>
                            <p:childTnLst>
                              <p:par>
                                <p:cTn id="425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200"/>
                            </p:stCondLst>
                            <p:childTnLst>
                              <p:par>
                                <p:cTn id="429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200"/>
                            </p:stCondLst>
                            <p:childTnLst>
                              <p:par>
                                <p:cTn id="433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700"/>
                            </p:stCondLst>
                            <p:childTnLst>
                              <p:par>
                                <p:cTn id="437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6200"/>
                            </p:stCondLst>
                            <p:childTnLst>
                              <p:par>
                                <p:cTn id="441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6700"/>
                            </p:stCondLst>
                            <p:childTnLst>
                              <p:par>
                                <p:cTn id="445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200"/>
                            </p:stCondLst>
                            <p:childTnLst>
                              <p:par>
                                <p:cTn id="449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5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7750"/>
                            </p:stCondLst>
                            <p:childTnLst>
                              <p:par>
                                <p:cTn id="453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750"/>
                            </p:stCondLst>
                            <p:childTnLst>
                              <p:par>
                                <p:cTn id="45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another nice atlantis release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greetings to all our friends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+++ no carrier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89323 -0.82084 E">
                                      <p:cBhvr>
                                        <p:cTn id="47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8" nodeType="after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88212 0.77408 E">
                                      <p:cBhvr>
                                        <p:cTn id="48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700"/>
                            </p:stCondLst>
                            <p:childTnLst>
                              <p:par>
                                <p:cTn id="49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49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700"/>
                            </p:stCondLst>
                            <p:childTnLst>
                              <p:par>
                                <p:cTn id="49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200"/>
                            </p:stCondLst>
                            <p:childTnLst>
                              <p:par>
                                <p:cTn id="49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0.47899 0.72801 E">
                                      <p:cBhvr>
                                        <p:cTn id="498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200"/>
                            </p:stCondLst>
                            <p:childTnLst>
                              <p:par>
                                <p:cTn id="5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549440"/>
            <a:ext cx="878544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00ff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1" lang="de-CH" sz="88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88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517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000"/>
                            </p:stCondLst>
                            <p:childTnLst>
                              <p:par>
                                <p:cTn id="521" nodeType="afterEffect" fill="hold" presetClass="exit" presetID="5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52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33d tr0ub13z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441440"/>
            <a:ext cx="1003320" cy="1987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812000" y="1441440"/>
            <a:ext cx="1090800" cy="1987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50920" y="4292640"/>
            <a:ext cx="1245960" cy="198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812000" y="4292640"/>
            <a:ext cx="1094040" cy="1989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1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181080" y="-1900080"/>
            <a:ext cx="9721800" cy="107280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93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-114300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path" presetID="3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48148E-006 C 0.03143 0.06042 0.07778 0.12292 0.11563 0.14792 C 0.17223 0.18842 0.22657 0.20393 0.23733 0.18356 C 0.24584 0.16342 0.20764 0.11319 0.15122 0.07268 C 0.11337 0.04745 0.04427 0.03009 -0.01649 0.02754 C -0.07534 0.03009 -0.1467 0.04745 -0.18454 0.07268 C -0.24097 0.11319 -0.27882 0.16342 -0.2684 0.18356 C -0.25781 0.20393 -0.20347 0.18842 -0.14895 0.14792 C -0.11111 0.12292 -0.06302 0.06042 -0.03333 1.48148E-006 C -0.00208 -0.06296 0.01893 -0.14607 0.01893 -0.19884 C 0.01893 -0.27917 0.00452 -0.34144 -0.01649 -0.34144 C -0.03576 -0.34144 -0.05225 -0.27917 -0.05225 -0.19884 C -0.05225 -0.14607 -0.02934 -0.06296 -3.61111E-006 1.48148E-006 Z">
                                      <p:cBhvr>
                                        <p:cTn id="120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600"/>
                            </p:stCondLst>
                            <p:childTnLst>
                              <p:par>
                                <p:cTn id="129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600"/>
                            </p:stCondLst>
                            <p:childTnLst>
                              <p:par>
                                <p:cTn id="13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181080" y="-1827360"/>
            <a:ext cx="9650520" cy="106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-139536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0nc3 m0r3, 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split dir="out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path" presetID="4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5521 -1.65208 L -0.31042 0.122 C -0.30156 0.122 -0.29323 -0.07662 -0.2816 -0.07986 C -0.26667 -0.03842 -0.23768 0.33704 -0.22049 0.37014 C -0.20365 0.37014 -0.19219 0.11852 -0.17795 0.11852 C -0.15868 0.11852 -0.2434 -0.06134 -0.2066 -0.06134 L -0.07674 -0.08032 L -0.11771 0.23866 L -0.01458 0.122 L 0.04444 0.29051 L 0.08107 0.12084 C 0.1118 0.11713 0.07934 -0.03101 0.11007 -0.03726 C 0.12118 -0.03819 0.13472 0.15301 0.15156 0.15533 C 0.1684 0.15811 0.19496 -0.01435 0.20035 -0.01319 C 0.20937 -0.0081 0.21562 0.15811 0.22656 0.16088 L 0.27396 0.08102 L 0.95312 0.38125 E">
                                      <p:cBhvr>
                                        <p:cTn id="168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7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93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0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0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93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91960"/>
            <a:ext cx="8229600" cy="61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0w3rp0Int</a:t>
            </a:r>
            <a:br>
              <a:rPr sz="9600"/>
            </a:br>
            <a:br>
              <a:rPr sz="9600"/>
            </a:b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ru1@z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50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209680" cy="575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32040" cy="575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16360" y="504720"/>
            <a:ext cx="28796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D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133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Pr0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5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500"/>
                            </p:stCondLst>
                            <p:childTnLst>
                              <p:par>
                                <p:cTn id="285" nodeType="afterEffect" fill="hold" presetClass="exit" presetID="53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2:17:55Z</dcterms:created>
  <dc:creator>powerpoint : robocop / music: maliktrey</dc:creator>
  <dc:description>;-)</dc:description>
  <dc:language>en-US</dc:language>
  <cp:lastModifiedBy>RBC</cp:lastModifiedBy>
  <dcterms:modified xsi:type="dcterms:W3CDTF">2005-08-16T04:12:34Z</dcterms:modified>
  <cp:revision>47</cp:revision>
  <dc:subject>buenzli powerpoint fun compo</dc:subject>
  <dc:title>atl-007-p0w3rp0Int ru1@z</dc:title>
</cp:coreProperties>
</file>