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jpeg" ContentType="image/jpeg"/>
  <Override PartName="/ppt/media/image32.png" ContentType="image/png"/>
  <Override PartName="/ppt/media/image22.jpeg" ContentType="image/jpeg"/>
  <Override PartName="/ppt/media/image39.png" ContentType="image/png"/>
  <Override PartName="/ppt/media/image21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23.jpeg" ContentType="image/jpeg"/>
  <Override PartName="/ppt/media/image2.jpeg" ContentType="image/jpeg"/>
  <Override PartName="/ppt/media/image20.png" ContentType="image/png"/>
  <Override PartName="/ppt/media/image31.jpeg" ContentType="image/jpeg"/>
  <Override PartName="/ppt/media/image35.png" ContentType="image/png"/>
  <Override PartName="/ppt/media/image5.jpeg" ContentType="image/jpeg"/>
  <Override PartName="/ppt/media/image4.png" ContentType="image/png"/>
  <Override PartName="/ppt/media/image12.jpeg" ContentType="image/jpeg"/>
  <Override PartName="/ppt/media/image37.png" ContentType="image/png"/>
  <Override PartName="/ppt/media/image34.jpeg" ContentType="image/jpeg"/>
  <Override PartName="/ppt/media/image7.jpeg" ContentType="image/jpeg"/>
  <Override PartName="/ppt/media/image28.jpeg" ContentType="image/jpeg"/>
  <Override PartName="/ppt/media/image36.png" ContentType="image/png"/>
  <Override PartName="/ppt/media/image40.png" ContentType="image/png"/>
  <Override PartName="/ppt/media/image48.png" ContentType="image/png"/>
  <Override PartName="/ppt/media/image9.jpeg" ContentType="image/jpeg"/>
  <Override PartName="/ppt/media/image11.jpeg" ContentType="image/jpeg"/>
  <Override PartName="/ppt/media/image33.png" ContentType="image/png"/>
  <Override PartName="/ppt/media/image45.png" ContentType="image/png"/>
  <Override PartName="/ppt/media/image6.jpeg" ContentType="image/jpeg"/>
  <Override PartName="/ppt/media/image27.jpeg" ContentType="image/jpeg"/>
  <Override PartName="/ppt/media/image46.jpeg" ContentType="image/jpeg"/>
  <Override PartName="/ppt/media/image30.jpeg" ContentType="image/jpeg"/>
  <Override PartName="/ppt/media/image43.png" ContentType="image/png"/>
  <Override PartName="/ppt/media/image47.jpeg" ContentType="image/jpeg"/>
  <Override PartName="/ppt/media/image10.jpeg" ContentType="image/jpeg"/>
  <Override PartName="/ppt/media/image38.png" ContentType="image/png"/>
  <Override PartName="/ppt/media/image8.jpeg" ContentType="image/jpeg"/>
  <Override PartName="/ppt/media/image29.jpeg" ContentType="image/jpeg"/>
  <Override PartName="/ppt/media/image26.jpeg" ContentType="image/jpeg"/>
  <Override PartName="/ppt/media/image42.png" ContentType="image/png"/>
  <Override PartName="/ppt/media/image44.png" ContentType="image/png"/>
  <Override PartName="/ppt/media/image1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93867-5CF4-4844-A6D8-6E116B113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DD486-7DEE-4E3E-9D9E-580510742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733C5-B210-4408-ACF2-C7218C7E6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01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696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01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696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94D72-44C2-4F62-95B2-980287F8F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B102E-62D9-457F-807F-DD4A594A6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06A93-1D9B-471E-8170-A4B6D0B2D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1476F-78DC-44CB-A40E-7638EDC3E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D915C-CAFB-4BEF-B8C9-E3156351E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709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6E6C0-5430-4E6A-AB00-BED0EA248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76A9D-6BF4-4282-927E-6A22DCF2B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B43E9-6DA8-4171-BCD1-2C2AE2429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E1652-7A9D-4039-A3C4-B2AB376E1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61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39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080"/>
            <a:ext cx="2346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615981-4629-417C-89EA-042A611B1F7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92000" y="395280"/>
            <a:ext cx="8569440" cy="162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 Narrow"/>
              </a:rPr>
              <a:t>*Série Dark’n’Luke*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10920" y="1763280"/>
            <a:ext cx="7056360" cy="19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Version alchimie 0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224000" y="2246400"/>
            <a:ext cx="8856720" cy="531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22120" y="1079640"/>
            <a:ext cx="949824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22120" y="1079640"/>
            <a:ext cx="949824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61800" y="1079640"/>
            <a:ext cx="949824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22120" y="1079640"/>
            <a:ext cx="949824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22120" y="1079640"/>
            <a:ext cx="949824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22120" y="1079640"/>
            <a:ext cx="949824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61800" y="1079640"/>
            <a:ext cx="949824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539640"/>
            <a:ext cx="10080720" cy="587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90520" y="1079640"/>
            <a:ext cx="949788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90520" y="1079640"/>
            <a:ext cx="949788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90520" y="1079640"/>
            <a:ext cx="949788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079640" y="0"/>
            <a:ext cx="8353440" cy="740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90520" y="1079640"/>
            <a:ext cx="949788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61800" y="1079640"/>
            <a:ext cx="949824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90520" y="1079640"/>
            <a:ext cx="949788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90520" y="1079640"/>
            <a:ext cx="949788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90520" y="1079640"/>
            <a:ext cx="949788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90520" y="1079640"/>
            <a:ext cx="949788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90520" y="1079640"/>
            <a:ext cx="949788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290520" y="1079640"/>
            <a:ext cx="949788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290520" y="1079640"/>
            <a:ext cx="949788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89080" y="1079640"/>
            <a:ext cx="949788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290520" y="1079640"/>
            <a:ext cx="949788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361800" y="1079640"/>
            <a:ext cx="949824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079640" y="276120"/>
            <a:ext cx="8137440" cy="709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216000" y="324000"/>
            <a:ext cx="9864720" cy="67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49120" y="973080"/>
            <a:ext cx="9579240" cy="574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98360" y="900000"/>
            <a:ext cx="9823680" cy="589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27080" y="900000"/>
            <a:ext cx="9823320" cy="589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90360" y="900000"/>
            <a:ext cx="9823680" cy="589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27080" y="900000"/>
            <a:ext cx="9823320" cy="589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27080" y="900000"/>
            <a:ext cx="9823320" cy="589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54160" y="1079640"/>
            <a:ext cx="949788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200160" y="900000"/>
            <a:ext cx="9821880" cy="5892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-9360" y="1079640"/>
            <a:ext cx="1009620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98360" y="900000"/>
            <a:ext cx="9823680" cy="589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27080" y="900000"/>
            <a:ext cx="9823320" cy="589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539640"/>
            <a:ext cx="10080720" cy="604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63440" y="900000"/>
            <a:ext cx="9823680" cy="589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681120" y="138240"/>
            <a:ext cx="8859600" cy="74167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647640" y="34920"/>
            <a:ext cx="8859960" cy="741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249120" y="1055520"/>
            <a:ext cx="9579240" cy="558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216000" y="74520"/>
            <a:ext cx="9504360" cy="748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61800" y="1079640"/>
            <a:ext cx="949824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61800" y="1079640"/>
            <a:ext cx="949824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84040" y="1055520"/>
            <a:ext cx="9579240" cy="558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61800" y="1079640"/>
            <a:ext cx="949824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22120" y="1079640"/>
            <a:ext cx="9498240" cy="55339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 miqueau blaise</cp:lastModifiedBy>
  <dcterms:modified xsi:type="dcterms:W3CDTF">2006-10-22T17:11:57Z</dcterms:modified>
  <cp:revision>4</cp:revision>
  <dc:subject/>
  <dc:title>Diapositive 1</dc:title>
</cp:coreProperties>
</file>